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47B72-7CFC-46C2-B942-44FF5393B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6279D-082A-4188-BF40-C3ED3EA17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F191-BA39-4E98-AF72-C38E95D48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9AC1B-776D-40FF-B115-586AC9EFF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763F4-6916-4D98-9957-CBD6CD381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5E762-DB94-416F-A69F-D9473A2A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1DD4F-C2CD-4A40-A2B9-506EDB82E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097D6-A412-4162-A658-E0A5207D1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5ED88-4526-43FD-9B99-AD4CA6F20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7B714-D962-4E65-B1DC-BFE919A47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E77C-C551-41E3-9F3D-BC34817C0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7751-1F9B-448F-AF15-FF5776BE0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EBE0-39AC-4570-B19F-4CE8B018BB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grayscl/>
          </a:blip>
          <a:stretch/>
        </p:blipFill>
        <p:spPr>
          <a:xfrm>
            <a:off x="4724280" y="1371600"/>
            <a:ext cx="1440000" cy="14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2:18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